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7727-3579-4236-A19F-89CE201CA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5155-DC5C-4A8A-A9EC-7232B201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FAA9-87E3-4AEB-B3D4-ECFC1BC69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F498-705F-40E9-B986-6515088C9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F7C2-431B-470B-9035-8ED06107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E909-4C2A-4A45-BC9F-A80EF385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926A-DBCA-42AE-9048-0257E0C7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600B-6237-4B17-8B7F-6D0AF9E9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9744-FD0C-44C3-B145-606F3325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1DF8-8EAA-4CFB-A426-5A334145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12FC-03E3-4996-88C4-999983CF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54CA-3E46-460A-9860-6E23E7F2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6186-0C4F-44BB-8F17-0E1849D2A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Hemal Parik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bolas with center (0,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al axis: x-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i: (+c,0) and (-c,0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es: (+a,0) and (-a,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itrasverse axis: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iconjugate axis: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thagorean real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t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0" y="0"/>
          <a:ext cx="1508040" cy="1203480"/>
        </p:xfrm>
        <a:graphic>
          <a:graphicData uri="http://schemas.openxmlformats.org/drawingml/2006/table">
            <a:tbl>
              <a:tblPr/>
              <a:tblGrid>
                <a:gridCol w="1508040"/>
              </a:tblGrid>
              <a:tr h="840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        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Rectangle 18"/>
          <p:cNvSpPr/>
          <p:nvPr/>
        </p:nvSpPr>
        <p:spPr>
          <a:xfrm>
            <a:off x="1800" y="12675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38666"/>
          <p:cNvPicPr/>
          <p:nvPr/>
        </p:nvPicPr>
        <p:blipFill>
          <a:blip r:embed="rId1"/>
          <a:stretch/>
        </p:blipFill>
        <p:spPr>
          <a:xfrm>
            <a:off x="1258920" y="1268280"/>
            <a:ext cx="2087640" cy="978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6" descr="38755"/>
          <p:cNvPicPr/>
          <p:nvPr/>
        </p:nvPicPr>
        <p:blipFill>
          <a:blip r:embed="rId2"/>
          <a:stretch/>
        </p:blipFill>
        <p:spPr>
          <a:xfrm>
            <a:off x="5076720" y="4797360"/>
            <a:ext cx="1800360" cy="3891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7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2690640"/>
          <a:ext cx="1150920" cy="974880"/>
        </p:xfrm>
        <a:graphic>
          <a:graphicData uri="http://schemas.openxmlformats.org/drawingml/2006/table">
            <a:tbl>
              <a:tblPr/>
              <a:tblGrid>
                <a:gridCol w="1150920"/>
              </a:tblGrid>
              <a:tr h="47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Rectangle 41"/>
          <p:cNvSpPr/>
          <p:nvPr/>
        </p:nvSpPr>
        <p:spPr>
          <a:xfrm>
            <a:off x="1800" y="37314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9" descr="38668"/>
          <p:cNvPicPr/>
          <p:nvPr/>
        </p:nvPicPr>
        <p:blipFill>
          <a:blip r:embed="rId3"/>
          <a:stretch/>
        </p:blipFill>
        <p:spPr>
          <a:xfrm>
            <a:off x="3348000" y="5300640"/>
            <a:ext cx="158436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more-on-hyperbolas-image013"/>
          <p:cNvPicPr/>
          <p:nvPr/>
        </p:nvPicPr>
        <p:blipFill>
          <a:blip r:embed="rId1"/>
          <a:stretch/>
        </p:blipFill>
        <p:spPr>
          <a:xfrm>
            <a:off x="395280" y="141300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yperbolas with center (0,0) cont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al Axis: y-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i: (0,+c) and (0,-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es: (0,+a) and (0,-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itransverse Axis: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iconjugate Axis: 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thagorean Rel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0" y="2630520"/>
          <a:ext cx="1508040" cy="1063440"/>
        </p:xfrm>
        <a:graphic>
          <a:graphicData uri="http://schemas.openxmlformats.org/drawingml/2006/table">
            <a:tbl>
              <a:tblPr/>
              <a:tblGrid>
                <a:gridCol w="1508040"/>
              </a:tblGrid>
              <a:tr h="106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Rectangle 26"/>
          <p:cNvSpPr/>
          <p:nvPr/>
        </p:nvSpPr>
        <p:spPr>
          <a:xfrm>
            <a:off x="1800" y="374724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9360" y="2639880"/>
          <a:ext cx="1489320" cy="1067040"/>
        </p:xfrm>
        <a:graphic>
          <a:graphicData uri="http://schemas.openxmlformats.org/drawingml/2006/table">
            <a:tbl>
              <a:tblPr/>
              <a:tblGrid>
                <a:gridCol w="1489320"/>
              </a:tblGrid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        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1" name="Picture 6" descr="38674"/>
          <p:cNvPicPr/>
          <p:nvPr/>
        </p:nvPicPr>
        <p:blipFill>
          <a:blip r:embed="rId1"/>
          <a:stretch/>
        </p:blipFill>
        <p:spPr>
          <a:xfrm>
            <a:off x="1187280" y="1197000"/>
            <a:ext cx="2160720" cy="10112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8"/>
          <p:cNvSpPr/>
          <p:nvPr/>
        </p:nvSpPr>
        <p:spPr>
          <a:xfrm>
            <a:off x="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0" y="3133800"/>
          <a:ext cx="1177920" cy="592200"/>
        </p:xfrm>
        <a:graphic>
          <a:graphicData uri="http://schemas.openxmlformats.org/drawingml/2006/table">
            <a:tbl>
              <a:tblPr/>
              <a:tblGrid>
                <a:gridCol w="1177920"/>
              </a:tblGrid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9360" y="3143160"/>
          <a:ext cx="1159200" cy="593640"/>
        </p:xfrm>
        <a:graphic>
          <a:graphicData uri="http://schemas.openxmlformats.org/drawingml/2006/table">
            <a:tbl>
              <a:tblPr/>
              <a:tblGrid>
                <a:gridCol w="115920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5" name="Picture 30" descr="38676"/>
          <p:cNvPicPr/>
          <p:nvPr/>
        </p:nvPicPr>
        <p:blipFill>
          <a:blip r:embed="rId2"/>
          <a:stretch/>
        </p:blipFill>
        <p:spPr>
          <a:xfrm>
            <a:off x="3348000" y="5300640"/>
            <a:ext cx="2016000" cy="839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0" descr="38755"/>
          <p:cNvPicPr/>
          <p:nvPr/>
        </p:nvPicPr>
        <p:blipFill>
          <a:blip r:embed="rId3"/>
          <a:stretch/>
        </p:blipFill>
        <p:spPr>
          <a:xfrm>
            <a:off x="5003640" y="4724280"/>
            <a:ext cx="2448000" cy="5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http://math.usask.ca/emr/images/hypgraph1.gif"/>
          <p:cNvPicPr/>
          <p:nvPr/>
        </p:nvPicPr>
        <p:blipFill>
          <a:blip r:embed="rId1"/>
          <a:stretch/>
        </p:blipFill>
        <p:spPr>
          <a:xfrm>
            <a:off x="611280" y="765000"/>
            <a:ext cx="76690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bolas with center (h,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Equa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al Axis: y=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i: (h+-c,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ices: (h+-a,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transverse axis: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conjugate axis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thagorean relation: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ptotes: y=+-b/a(x-h)+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0" descr="38755"/>
          <p:cNvPicPr/>
          <p:nvPr/>
        </p:nvPicPr>
        <p:blipFill>
          <a:blip r:embed="rId1"/>
          <a:stretch/>
        </p:blipFill>
        <p:spPr>
          <a:xfrm>
            <a:off x="5003640" y="5113440"/>
            <a:ext cx="2448000" cy="528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http://www.algebra.com/cgi-bin/plot-formula.mpl?expression=((x+-+h)%5E2%2Fa%5E2)+%2B+((y+-+k)%5E2%2Fb%5E2)+=+1&amp;x=0003"/>
          <p:cNvPicPr/>
          <p:nvPr/>
        </p:nvPicPr>
        <p:blipFill>
          <a:blip r:embed="rId2"/>
          <a:stretch/>
        </p:blipFill>
        <p:spPr>
          <a:xfrm>
            <a:off x="4322880" y="1557360"/>
            <a:ext cx="25527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http://www.tutornext.com/system/files/u44/hyperbola.jpg"/>
          <p:cNvPicPr/>
          <p:nvPr/>
        </p:nvPicPr>
        <p:blipFill>
          <a:blip r:embed="rId1"/>
          <a:stretch/>
        </p:blipFill>
        <p:spPr>
          <a:xfrm>
            <a:off x="1763640" y="1197000"/>
            <a:ext cx="661032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bolas with center (h,k) cont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equ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al axis: x=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i: (h, k+-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ices (h, k+-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transvers axis: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conjugate axis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thagorean re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ptotes: +-a/b(x-h)+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0" descr="38755"/>
          <p:cNvPicPr/>
          <p:nvPr/>
        </p:nvPicPr>
        <p:blipFill>
          <a:blip r:embed="rId1"/>
          <a:stretch/>
        </p:blipFill>
        <p:spPr>
          <a:xfrm>
            <a:off x="4861080" y="5084640"/>
            <a:ext cx="2447640" cy="528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2"/>
          <a:stretch/>
        </p:blipFill>
        <p:spPr>
          <a:xfrm>
            <a:off x="4459320" y="1484280"/>
            <a:ext cx="288612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http://math.usask.ca/emr/images/hypgraph1.gif"/>
          <p:cNvPicPr/>
          <p:nvPr/>
        </p:nvPicPr>
        <p:blipFill>
          <a:blip r:embed="rId1"/>
          <a:stretch/>
        </p:blipFill>
        <p:spPr>
          <a:xfrm>
            <a:off x="684360" y="476280"/>
            <a:ext cx="7667640" cy="67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bola with vertex (0,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^2=4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s: Upward and Down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: (0,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rix: y=-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xis: y-ax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al  Length: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al width: l4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http://www.algebra.com/cgi-bin/plot-formula.mpl?expression=graph(400%2C300%2C-10%2C10%2C-10%2C10%2C(1%2F16)x%5E2)&amp;x=0003"/>
          <p:cNvPicPr/>
          <p:nvPr/>
        </p:nvPicPr>
        <p:blipFill>
          <a:blip r:embed="rId1"/>
          <a:stretch/>
        </p:blipFill>
        <p:spPr>
          <a:xfrm>
            <a:off x="1042920" y="2060640"/>
            <a:ext cx="576108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bolas with vertex (0,0)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: to the right or to the le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: (p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rix: x=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is: x-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al length: 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al width: l4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y^2 = 4px\,"/>
          <p:cNvPicPr/>
          <p:nvPr/>
        </p:nvPicPr>
        <p:blipFill>
          <a:blip r:embed="rId1"/>
          <a:stretch/>
        </p:blipFill>
        <p:spPr>
          <a:xfrm>
            <a:off x="755640" y="1268280"/>
            <a:ext cx="28083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image.wistatutor.com/content/feed/tvcs/Image2317parabola.gif"/>
          <p:cNvPicPr/>
          <p:nvPr/>
        </p:nvPicPr>
        <p:blipFill>
          <a:blip r:embed="rId1"/>
          <a:stretch/>
        </p:blipFill>
        <p:spPr>
          <a:xfrm>
            <a:off x="1332000" y="1700280"/>
            <a:ext cx="532764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bolas with vertex (h,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s: upward or down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: (h,k+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rix: y=k-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xis: x=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al Length: 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al width: l4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(x-h)^{2}=4p(y-k).\,"/>
          <p:cNvPicPr/>
          <p:nvPr/>
        </p:nvPicPr>
        <p:blipFill>
          <a:blip r:embed="rId1"/>
          <a:stretch/>
        </p:blipFill>
        <p:spPr>
          <a:xfrm>
            <a:off x="1187280" y="1557360"/>
            <a:ext cx="439272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://people.richland.edu/james/lecture/m116/conics/parabola2.gif"/>
          <p:cNvPicPr/>
          <p:nvPr/>
        </p:nvPicPr>
        <p:blipFill>
          <a:blip r:embed="rId1"/>
          <a:stretch/>
        </p:blipFill>
        <p:spPr>
          <a:xfrm>
            <a:off x="1536840" y="1197000"/>
            <a:ext cx="47638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bolas with vertex (h,k)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s: To the right or to the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: (h+p,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rix: x=h-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xis: y=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al Length: 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al width: l4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(y-k)^{2}=4p(x-h)\,"/>
          <p:cNvPicPr/>
          <p:nvPr/>
        </p:nvPicPr>
        <p:blipFill>
          <a:blip r:embed="rId1"/>
          <a:stretch/>
        </p:blipFill>
        <p:spPr>
          <a:xfrm>
            <a:off x="1116000" y="1484280"/>
            <a:ext cx="460836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 (h,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http://iguerrero.files.wordpress.com/2009/12/parabola-vfo.png"/>
          <p:cNvPicPr/>
          <p:nvPr/>
        </p:nvPicPr>
        <p:blipFill>
          <a:blip r:embed="rId1"/>
          <a:stretch/>
        </p:blipFill>
        <p:spPr>
          <a:xfrm>
            <a:off x="2411280" y="1316160"/>
            <a:ext cx="475308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20:19:52Z</dcterms:created>
  <dc:creator>Shah</dc:creator>
  <dc:description/>
  <dc:language>en-US</dc:language>
  <cp:lastModifiedBy>Hemal</cp:lastModifiedBy>
  <dcterms:modified xsi:type="dcterms:W3CDTF">2011-04-20T05:30:30Z</dcterms:modified>
  <cp:revision>9</cp:revision>
  <dc:subject/>
  <dc:title>Conics</dc:title>
</cp:coreProperties>
</file>